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8C9-C1EF-4D8D-96D5-1E31C4B4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9CA-673A-477E-83F5-9CD261A3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805-D925-46BD-898E-D0E67E52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BB2-8DDC-41F1-95BC-FA01E711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E9D6-0491-455F-9D13-420FB8BF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38D7-1A2F-432C-AA3F-A3E2B82C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9392-FE3A-44CF-B6D6-FEF45399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74D2-588D-4C16-BFB5-BA04FC15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542E-7E20-484A-AE1E-4148EB2D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FDBF-BDD3-4B40-9DAA-70C0FA96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D6E9-7ABC-4149-BE05-99210146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28F-0081-4F91-B938-82BE7A7F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ADEE-6068-418B-826B-BB48F26F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6582-9087-41F0-8EB1-42FB8E05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ECCE-A4F0-41F3-8416-2661AD9F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6972-7B6D-48D9-93B9-CA84C090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94C1-9722-4EEA-83A2-80E8F3EC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3202-2E46-4CE3-81AD-6537D6B4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2A57C-FFA1-4A2C-94BA-A768B820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34BC-7BAD-495B-868F-D13DD8A5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B4DB-B04B-440D-845D-3A1513D7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2993-E9E3-452A-BAE9-014C5B34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A2B-32EB-46B7-83F8-AE00B28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7929-2292-42EA-AF1B-F86B3B8C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F07C-EF42-4B2D-B0DB-DB7BB1EE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F263-F8B3-4EB4-B49C-3E997A97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9FE68-0FAE-4706-BB8F-7744F531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0E31-BDD6-439E-9D62-FCEB73DA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A83D-DDFB-46FC-AF7C-F62FBFFB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CCFC-CA00-4256-9F61-2C7B5D1C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28F0-BFB6-4943-8B23-D4FEA913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C452-30A1-4FF9-985F-AFCEE8EC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A2D9-69DD-42B1-876A-62C49B1D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732-DDF3-4821-9D91-B14DD573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B063-8137-4CB3-AC3E-FB192F49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95B1-F4F1-428D-9232-C66FD984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21592-C250-4230-97AE-092EEB60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5344C-3BFD-4A5F-A057-169D315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D79CD-3DDA-48D9-A533-F5E04CF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64A9-064B-4727-BC54-FE358515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F1994-AA9B-4C0E-8478-855FFF05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9A50B-74B2-4498-B365-9DAE9451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B62B-7358-41F6-B786-7C269C65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0453-6C03-429C-8FB9-B708949A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D14-D2BF-43B7-8FCA-D5A3E0BA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AD46-0364-4573-BD74-A9FCA2BE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87BE-A066-44F4-AE8D-4CF9C26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5D1D-DAB0-4579-8E71-7E6BE982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3891-5897-43F2-93BB-3A8C241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35BE-F85C-4170-B770-8287D64C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D5ED-222A-45C5-8181-9B2178F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CAAC-9A1D-405E-B178-F6C7CE69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E59F0-C08F-410B-A2FF-35B244A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80D7B-2286-4789-B1FB-3CD7D147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59FEC-18BD-4549-A1CC-0E782DD8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317-223F-4E13-96B4-5339A15E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FF738-7A52-4FC5-B3B9-314341C7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467E-2CC5-4279-98CF-942E4FE2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E0AF-75CE-41C3-9FB3-846B80EF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BF0E6-054D-4447-95BA-886C0CC9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7D160-071B-4595-9AEF-C6A4412C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E3790-CEF1-4236-BF42-86673FC2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AA64A-0697-4D86-BFAB-B0F0789A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84158-E52B-4F5D-BB5D-692C940D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16C23-2C51-4CA1-961F-18F841CB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73C22-CAA0-4593-B19A-50EE7410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01B-1D4C-4021-98F6-A069F96B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A0DAF-411A-4335-9D73-6F066890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54229-C3BD-4906-9490-CF439FC2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1EED-AC69-4DC1-834D-9C67D91B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58B-526E-4252-A6D0-F942ED42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57C-0D54-4799-977C-3D49B89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770-9520-4201-A6E5-31775F3E6EF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F964-6B92-4CA6-B6D7-7A9E614DCF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3B2-9F70-4808-A44A-B2960B96EB1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8EA5-C6DE-4746-8211-FAA555B5918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700E-8E35-414D-898B-1F892F5B0E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49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250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6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268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272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276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80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27B0-260B-4A89-AF03-E839992B1A0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Arial"/>
              </a:rPr>
              <a:t>Тема проект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42524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Авторы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Владелец</cp:lastModifiedBy>
  <dcterms:modified xsi:type="dcterms:W3CDTF">2010-05-17T05:23:33Z</dcterms:modified>
  <cp:revision>61</cp:revision>
  <dc:subject/>
  <dc:title>Слайд 1</dc:title>
</cp:coreProperties>
</file>